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F52-EE2F-4596-9345-5C0D8319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1D5-FC49-4F3A-858F-27224FC2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DF3C-2785-4392-89B0-16CEA8C4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A2F-C1E4-4A56-B421-B4C2489F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BA72-E809-475C-9E43-F8884233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94A9-8280-4510-8BF1-5D143177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44E0-D052-4694-9844-19FCB0F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EBE4-ADB8-4E8E-BC23-3492E7D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54CE-A05E-4568-BD1F-806B35D5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BBF0-1A09-4093-B2D2-0044637A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C88A-4927-4810-B1B7-0DB91C02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B87-762F-4101-9A74-BB896BAE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7EEB-02AC-4821-9A57-4620EB47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EA81-EE2B-4E3E-9FD2-AC3B9951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BAAC-EDA4-4600-9882-74331FBA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24F0-3BCC-4B6E-A213-7E33AEC27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45AE-C364-4796-A1EE-43344653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326AB-604C-4522-B938-02AC896C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5073D-288A-4DBB-9BE8-5746271B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9CAA3-65CA-454C-9B9B-516EFDD7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91F70F-46C6-4230-B691-0A27188B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DF967D-B6D2-4C4A-A2EC-CBBFCC94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2C81-CE4F-4708-8AB2-835F3249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001AB-1BC3-4B7E-8255-77AE7E2F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1337A-B5D4-4AA1-8A4F-0246D875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1EEAA-B721-4CF3-93A7-C1E7DBA4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0505C-014E-4485-A2D6-ED666698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64714-BF61-440F-8518-6AD63077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C1F51-2499-46EE-8A72-B320035E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30F158-1517-4619-8A2C-0A98D56F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D92FCC-E402-4B20-8CDE-097207B3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70FF5-3208-4FEF-BA33-6F1909BB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20D55-C4B8-42F5-999D-8B4C547B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E51-FB1A-42F8-B4E5-5337BE86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969E9D-FF2D-4D39-B165-6DB8F77F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AA13D-A6EE-4857-8535-FB17B604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EBDE5-0F0C-4B68-8424-8137F848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900146-E027-415E-9444-EA723C84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0B41C-D8F4-48F9-A1E1-227CF82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18EA77-2BC0-48AC-9137-21DE91BC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95777C-D44A-479F-8065-9FF7214B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76518C-43F0-4176-9D89-F0169432D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53715-A4EE-4A19-A413-6A924C13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4E94E-16D0-4C27-BE46-DA664CA4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A492-B2F9-40F3-ABC0-F0329805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F3942-553E-4F4F-92EC-9556134D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72B10-C1F7-41AD-A607-F6B89E0A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AB9A6-AE1F-459C-8662-C40B18C8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DD9406-C7E0-41A9-84C8-4AA508BE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F97D2F-E094-47FF-B9D4-7F3640DC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39E38-FB18-4BCF-A2F7-1D6B2E4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EBAB7-1FB1-459C-BB5A-F26DE523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92A5D4-1172-4104-872B-D71DF71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5C30B5-10F1-4134-A89E-AC4E1918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C10A83-0AC1-4A3D-A304-84F733DA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FBC-3843-457D-8077-F11889E6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BCFA2-87D3-44BB-924F-35D32474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018D6-3F62-4B55-9643-DB4BDE7B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00EBD-FA37-4799-AAD3-BB29D171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D3158-FF08-432F-A0B5-6A5659D1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DEAF7-5077-4D44-948A-B8477E95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264D8-633E-4D5E-BE4E-1EBAAC7E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BCD63-7F23-47FC-8A53-B9197BFB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2F66D-CFC6-4D02-A32C-2D56CFB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3B20F-3550-42E9-A96B-30D4E412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1CA9F-1182-4A13-9D45-3063150F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7AE-6650-479E-9AFB-E96A04C6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07907-C7EF-4424-A3BF-94A2BDBE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A4AA-B175-4FB5-8CC4-CC3EAD1E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4431-E571-4DBA-8D65-4F20F405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EDAE8-C615-4A58-9A8C-CA7689F3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431B11-CD3A-40E8-AC20-DF771995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0B2AF6-36E6-417B-AB38-B9AA6A6D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47CE0C-E09B-43E5-A45A-DBD75B10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6643A5-2795-4C93-BCF1-B123923A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8DDB2-F16C-4B08-91A7-82D03E63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19FBD8-5DEC-4F3D-B686-5CC2B73C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1BE4-9414-4C87-A7B4-E2D31F00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6F816F-E545-45FA-80A5-96632FB6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14FC9-4C85-4354-A8B4-044648B3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2AB227-35BB-48BE-9A82-FA2F886C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20F7A-ADA1-4A52-815D-6466D508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CEBC5-25CC-4232-913B-75190888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099D7-D3EA-42A3-A536-4AE38047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E62F0-FFDF-4CE0-A4DD-DDC6A69B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99F4B-1CB8-4A2C-9C4B-04DB95A3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44225-FED3-44CA-AB5D-6B51D753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7DED0-E38B-4BD2-B903-19EEA3A7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2D61-E28B-4C57-B601-AE588772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28A52-F34E-4865-8522-4FF3C938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8DA65-3474-4D62-92CF-DC0978DD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4CA15-F591-40CA-8070-E54B5C98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751A8-D439-4E1F-80EC-B88E11B1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14127-484A-47C5-BA38-A82198AC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EDB94-D131-4172-97A6-50E2683D8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D8973-784E-46FF-8161-994B8FED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B7B4-442F-41CC-805F-471F799268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B0DF-C7B2-4116-8C46-EAB43166AE49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58DB-0A55-4CB6-86AA-1DEDE42EBF36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899B-F3D3-4466-B019-43AF567DDD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0382-1481-425B-A879-5DABE50C03B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FD85-24E3-4304-AAA3-6390F84C9141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F304-24C8-4DAB-B980-3CD467D23CD3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C472-EB2F-472E-AD9B-1E92A246670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42884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ebddc3"/>
                </a:solidFill>
                <a:latin typeface="Calibri"/>
              </a:rPr>
              <a:t>ПОЛЕЗНЫЕ ИСКОПАЕМЫЕ </a:t>
            </a:r>
            <a:br>
              <a:rPr sz="6600"/>
            </a:br>
            <a:r>
              <a:rPr b="0" lang="ru-RU" sz="6600" spc="-1" strike="noStrike">
                <a:solidFill>
                  <a:srgbClr val="ebddc3"/>
                </a:solidFill>
                <a:latin typeface="Calibri"/>
              </a:rPr>
              <a:t>ЛЕНИНГРАДСКОЙ ОБЛАСТИ</a:t>
            </a:r>
            <a:endParaRPr b="0" lang="en-US" sz="6600" spc="-1" strike="noStrike">
              <a:solidFill>
                <a:srgbClr val="ebddc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27 году были обнаружены горючие сланцы. Сланцы это горючий газ,битум и многое другое для химической промышленности. В районе их добычи возник город Сланцы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области свыше 30 месторождений </a:t>
            </a:r>
            <a:r>
              <a:rPr b="0" lang="ru-RU" sz="2900" spc="-1" strike="noStrike" u="sng">
                <a:solidFill>
                  <a:srgbClr val="f7b615"/>
                </a:solidFill>
                <a:uFillTx/>
                <a:latin typeface="Calibri"/>
                <a:hlinkClick r:id="rId1" action="ppaction://hlinksldjump"/>
              </a:rPr>
              <a:t>гранит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f7b615"/>
                </a:solidFill>
                <a:uFillTx/>
                <a:latin typeface="Calibri"/>
                <a:hlinkClick r:id="rId2" action="ppaction://hlinksldjump"/>
              </a:rPr>
              <a:t>Край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богат торфом, бентонитовой глиной, известняко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Полезные ископаемы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4" name="Picture 5" descr="karta2"/>
          <p:cNvPicPr/>
          <p:nvPr/>
        </p:nvPicPr>
        <p:blipFill>
          <a:blip r:embed="rId1"/>
          <a:stretch/>
        </p:blipFill>
        <p:spPr>
          <a:xfrm>
            <a:off x="285840" y="1143000"/>
            <a:ext cx="8572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9:35:10Z</dcterms:created>
  <dc:creator>Марина Микрюкова</dc:creator>
  <dc:description/>
  <dc:language>en-US</dc:language>
  <cp:lastModifiedBy>Марина Микрюкова</cp:lastModifiedBy>
  <dcterms:modified xsi:type="dcterms:W3CDTF">2016-02-09T19:56:26Z</dcterms:modified>
  <cp:revision>3</cp:revision>
  <dc:subject/>
  <dc:title>ПОЛЕЗНЫЕ ИСКОПАЕМЫЕ  ЛЕНИНГРАДСКОЙ ОБЛАСТИ</dc:title>
</cp:coreProperties>
</file>